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ACE6-4BBF-4891-BDF0-96229AF670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9B6-CE50-4123-BCA9-4921C9B6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C09-0746-48BE-8A0F-EC8D474A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A1E-FDA9-4207-A7BF-2C8060DD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06C-13A1-4571-8F30-6BBE36FB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805-F9AD-495E-AFFC-A8C34BD1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52B-8540-469D-A235-ABE55542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388-DEC2-41C9-9690-6D7793F1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43B-A3A8-48C7-92B4-0ED7E558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F66-11F6-4DB4-8B52-4B1012D5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C45-D8FC-451A-8857-4BE47D72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CEC-C968-4016-951F-5B9D0BE7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12F-BEB6-4DF8-AD4C-A7F1158A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4BAC-2857-4216-90D1-DC4287977C5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6267-4525-4CB0-A3DE-468FCCA35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4.jpg"/>
          <p:cNvPicPr/>
          <p:nvPr/>
        </p:nvPicPr>
        <p:blipFill>
          <a:blip r:embed="rId1"/>
          <a:stretch/>
        </p:blipFill>
        <p:spPr>
          <a:xfrm>
            <a:off x="-1044720" y="0"/>
            <a:ext cx="10531800" cy="842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4. Рынки ресурсов. Рынок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24000" y="1974960"/>
            <a:ext cx="8351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1 Рынок ресурсов и его особен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2. Оптимальное сочетание факторов производства и максимизация прибы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3. Земля как фактор производства. Рента и цен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использования ресурсов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RC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наименьших издержек в условиях 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1988640"/>
            <a:ext cx="8136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1692360" y="3933720"/>
                <a:ext cx="5456160" cy="23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инимизации издержек в условиях несовершенно конкурентных рынков ресур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1727280" y="2781360"/>
                <a:ext cx="5653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совершенно конкурентных рынков ресурс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332000" y="2781360"/>
                <a:ext cx="609264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не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763640" y="2781360"/>
                <a:ext cx="59040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Эластичность спроса на ресурс по це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1476360" y="3429000"/>
                <a:ext cx="61675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Факторы, влияющие на эластичность спроса на ресур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Наличие и доступность на рынке ресурсов-замен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Доля ресурса в издержках фи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Анализируемый период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Эластичность спроса на продукт, изготавливаемый при помощи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Структура рынка готовой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Земля как фактор производств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Рента и цена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зем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Рынок ресурсов и его особ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Рента и 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ая рента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ресурс, предложение которого строго ограниче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ная рен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использование земли и других природных ресурсов, предложение которых строго ограниче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Формы земельной р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-2700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бсолютна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Графический анал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Прямая со стрелкой 4"/>
          <p:cNvCxnSpPr/>
          <p:nvPr/>
        </p:nvCxnSpPr>
        <p:spPr>
          <a:xfrm>
            <a:off x="2626920" y="5229360"/>
            <a:ext cx="5041080" cy="216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62" name="Прямая со стрелкой 6"/>
          <p:cNvCxnSpPr/>
          <p:nvPr/>
        </p:nvCxnSpPr>
        <p:spPr>
          <a:xfrm flipV="1">
            <a:off x="2626200" y="1773000"/>
            <a:ext cx="2520" cy="34567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63" name="Прямая соединительная линия 16"/>
          <p:cNvSpPr/>
          <p:nvPr/>
        </p:nvSpPr>
        <p:spPr>
          <a:xfrm>
            <a:off x="4716360" y="1916280"/>
            <a:ext cx="0" cy="331308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0"/>
          <p:cNvSpPr/>
          <p:nvPr/>
        </p:nvSpPr>
        <p:spPr>
          <a:xfrm>
            <a:off x="3348000" y="2060640"/>
            <a:ext cx="3024360" cy="158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2"/>
          <p:cNvSpPr/>
          <p:nvPr/>
        </p:nvSpPr>
        <p:spPr>
          <a:xfrm>
            <a:off x="3059280" y="2637000"/>
            <a:ext cx="3097080" cy="151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4"/>
          <p:cNvSpPr/>
          <p:nvPr/>
        </p:nvSpPr>
        <p:spPr>
          <a:xfrm>
            <a:off x="2843280" y="3213000"/>
            <a:ext cx="302400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0"/>
          <p:cNvSpPr/>
          <p:nvPr/>
        </p:nvSpPr>
        <p:spPr>
          <a:xfrm>
            <a:off x="2916360" y="4653000"/>
            <a:ext cx="1726920" cy="806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2"/>
          <p:cNvSpPr/>
          <p:nvPr/>
        </p:nvSpPr>
        <p:spPr>
          <a:xfrm>
            <a:off x="2198520" y="1700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2198880" y="25653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2198880" y="38606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2198880" y="321300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5799600" y="2997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5799600" y="364500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"/>
          <p:cNvSpPr/>
          <p:nvPr/>
        </p:nvSpPr>
        <p:spPr>
          <a:xfrm>
            <a:off x="5728320" y="4292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2"/>
          <p:cNvSpPr/>
          <p:nvPr/>
        </p:nvSpPr>
        <p:spPr>
          <a:xfrm>
            <a:off x="392436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3"/>
          <p:cNvSpPr/>
          <p:nvPr/>
        </p:nvSpPr>
        <p:spPr>
          <a:xfrm>
            <a:off x="4790160" y="1916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4"/>
          <p:cNvSpPr/>
          <p:nvPr/>
        </p:nvSpPr>
        <p:spPr>
          <a:xfrm>
            <a:off x="7455240" y="5300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56"/>
          <p:cNvSpPr/>
          <p:nvPr/>
        </p:nvSpPr>
        <p:spPr>
          <a:xfrm flipH="1">
            <a:off x="2627280" y="4149720"/>
            <a:ext cx="2016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60"/>
          <p:cNvSpPr/>
          <p:nvPr/>
        </p:nvSpPr>
        <p:spPr>
          <a:xfrm flipH="1">
            <a:off x="2626920" y="350028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62"/>
          <p:cNvSpPr/>
          <p:nvPr/>
        </p:nvSpPr>
        <p:spPr>
          <a:xfrm flipH="1">
            <a:off x="2626920" y="278136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7"/>
          <p:cNvSpPr/>
          <p:nvPr/>
        </p:nvSpPr>
        <p:spPr>
          <a:xfrm>
            <a:off x="4647960" y="522936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9"/>
          <p:cNvSpPr/>
          <p:nvPr/>
        </p:nvSpPr>
        <p:spPr>
          <a:xfrm>
            <a:off x="4719960" y="378936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0"/>
          <p:cNvSpPr/>
          <p:nvPr/>
        </p:nvSpPr>
        <p:spPr>
          <a:xfrm>
            <a:off x="4791600" y="306864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1"/>
          <p:cNvSpPr/>
          <p:nvPr/>
        </p:nvSpPr>
        <p:spPr>
          <a:xfrm>
            <a:off x="4719960" y="242100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ляет капитализированную ренту – ренту, превращенную в капит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611280" y="1773360"/>
                <a:ext cx="80834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ента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годовая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ставка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684360" y="4221000"/>
                <a:ext cx="79200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зме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арендной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ат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лич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Вопросы для само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кторы производ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кономическая категория, означающая уже реально вовлеченные в процесс производства ресур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рынка факторов производ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ресурсы зависит от следующих фактор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зготавливаемую фирмой при помощи данного ресурса, таким образом носит производный х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Оптимальное сочетание факторов производства и максимизация прибы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едельный продукт в денежном выражении или предельная доходность ресур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ая доходность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доход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де Р – цена единицы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МС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е издержки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– предельные издержки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2:51Z</dcterms:modified>
  <cp:revision>4</cp:revision>
  <dc:subject/>
  <dc:title>Тема 4. Рынки ресурсов. Рынок земли</dc:title>
</cp:coreProperties>
</file>